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43B-52CF-44D8-A57A-3A45E1FE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EE8-DD8C-4131-896B-30F33D1F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EA0-C814-4931-9721-27D67DA5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6A9-ABCE-4DEA-A1B9-F58326F1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8FAE-CBCB-46AC-A5B6-43C47F1C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D227-A12F-4E37-8EE7-60C92986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4CD2-4E67-4873-9A79-CE179B3A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6A74-6A03-4CB8-B99E-C12FF8D1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C8D8-526F-4844-97FC-866D4A64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A19D-3D9A-4DC4-8C64-63C8D848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2DB5-8532-4EDF-990A-3E85E0CB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1DA-0663-4FE4-8277-BDD080E0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6C0C-4C49-4150-9DD6-61568087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C982-7A00-45FD-81D4-6D914742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D987-923B-461E-BB64-8D55A692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2856-CDF0-4327-91AA-9795268B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D191-6E8F-4D6F-A1BD-9D6DD138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E23-6D82-4627-B5E2-D13915DC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280-27E4-4969-AB9E-2E014DC7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EBD-2E20-4F2C-A5B2-5D720322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494-AB09-4F43-9056-2E105F08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A6D-8F7F-42BE-A9CB-BC296EC7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7B3-7097-4060-81E4-148C2121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38E-4E00-4FEE-9871-D401237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56DE-5B92-475E-A258-159926F59D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602C-FD6B-4524-A28A-8684DAC6F1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iology.arizona.edu/biochemistry/tutorials/chemistry/page2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38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8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386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difference between a covalent bond and an ionic bond?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an example of a substance with each kind of bond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s of elements are associated with each kind of bond?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">
            <a:hlinkClick r:id="rId1"/>
          </p:cNvPr>
          <p:cNvSpPr/>
          <p:nvPr/>
        </p:nvSpPr>
        <p:spPr>
          <a:xfrm>
            <a:off x="4495680" y="50292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7" h="21600">
                <a:moveTo>
                  <a:pt x="1080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7" h="21600">
                <a:moveTo>
                  <a:pt x="8227" y="8224"/>
                </a:moveTo>
                <a:lnTo>
                  <a:pt x="12092" y="8224"/>
                </a:lnTo>
                <a:lnTo>
                  <a:pt x="12092" y="15221"/>
                </a:lnTo>
                <a:lnTo>
                  <a:pt x="13380" y="15221"/>
                </a:lnTo>
                <a:lnTo>
                  <a:pt x="13380" y="16144"/>
                </a:lnTo>
                <a:lnTo>
                  <a:pt x="8227" y="16144"/>
                </a:lnTo>
                <a:lnTo>
                  <a:pt x="8227" y="15221"/>
                </a:lnTo>
                <a:lnTo>
                  <a:pt x="9516" y="15221"/>
                </a:lnTo>
                <a:lnTo>
                  <a:pt x="9516" y="9129"/>
                </a:lnTo>
                <a:lnTo>
                  <a:pt x="8227" y="9129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7:11:46Z</dcterms:created>
  <dc:creator>PritchaJ</dc:creator>
  <dc:description/>
  <dc:language>en-US</dc:language>
  <cp:lastModifiedBy>PritchaJ</cp:lastModifiedBy>
  <dcterms:modified xsi:type="dcterms:W3CDTF">2011-05-24T17:23:18Z</dcterms:modified>
  <cp:revision>2</cp:revision>
  <dc:subject/>
  <dc:title>Slide 1</dc:title>
</cp:coreProperties>
</file>